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D8E-4364-4CF0-BB3C-85D0165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254-F11D-4BE1-B379-02B452B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C92-593A-43FB-BFD3-D87083E5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8CE-EED7-44C8-8F2C-B6EC1E4C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C657-F8BF-4C9D-B1FF-5D97D929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CBA9-BD1B-45BA-884B-BCD02D6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965D-F686-4870-BAA7-3874AB8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62F-1123-4199-AA81-87E2ECE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E75-5C05-41EF-9916-F6D664E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274-6BD9-4873-9B58-5D8A5D83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EB1-73F8-4F49-B2E7-5670404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6FE-90D3-4B6B-A9AF-1225904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A9C-7107-48A2-8AE8-DDB5BAE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5C75-F48A-4290-9C36-F066A45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F6F-5FDC-466D-85A7-E8355142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2BE-EA24-4263-9051-2BBC175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8A1-6DA0-4859-8F0B-18DFF0AE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F88-0702-437A-B582-B7259DB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859-C760-49CD-92C3-BF1C69C6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8E5-C923-4A58-A1F1-0829E8D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15E-03FB-4CF6-8893-2821639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648-DED3-4B3B-A2FF-03CDDC4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396-208A-4DD5-A4E3-324E0D2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59E-2AE4-427C-98A2-D3BC22B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B97-EA6D-4D2B-9C84-E5B976F43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09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E37D-112A-4CF1-92E9-E58D7AC47A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f5f9"/>
                </a:solidFill>
                <a:latin typeface="Calibri"/>
              </a:rPr>
              <a:t>«Искусство доколумбовой Америки»</a:t>
            </a:r>
            <a:endParaRPr b="1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удентка 4 курса КГПИ филологического факультета Лобанова Н.С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сновополагающий  вопрос нашего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такое искусств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за континент доколумбовая Америка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такие ольме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кова художественная культура классического периода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то такое Теотихуахон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такие ацтеки и каково их искусств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Дидактическая цель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знакомить учащихся с художественной культурой народов доколумбовой Амери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Методические задачи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ать представление о наиболее значительных достижениях художественной культуры народов Центральной и Южной Амери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знакомить с характерными особенностями культуры народов доколумбовой Амери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пособствовать творческой деятельности учащихс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спитывать познавательную активнос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оссвор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кл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сс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ворческая презентац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Продолжительность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оект рассчитан на 4 учебных часа. Всего 4 уро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Этапы проведения проекта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бор и формулировка тем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иск информаци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формление про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щита про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alibri"/>
              </a:rPr>
              <a:t>Информационные ресурсы:</a:t>
            </a:r>
            <a:endParaRPr b="1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historic.ru/lostcivil/inca/gallery/ruins.s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historic.ru/lostcivil/inca/gallery/ruins02.s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www.sciteclibrary.ru/rus/catalog/pages/6026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www.mesoamerica.ru/indians/index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http://goldenfish.nm.ru/index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0-04-26T07:06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